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18B5-6389-4822-9332-7DBAE96B7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45EC-C91B-4DBB-B349-B26ABA57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DA8A87-7C66-4E15-9F79-BC0221B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62FE91-4D72-423A-A4ED-96C7E993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E404B-78B8-4D99-BE2C-F92816B8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C5BBB5-91CE-4129-B264-42790E2A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8F208-76BD-49F4-A789-D131FC71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29850-0B05-4B2C-94EF-131453F8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CBE3DA-4E1E-4A10-84BF-F8A06575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F2A519-F507-444D-AE5B-F36F218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6ABE5-2AB5-4BDC-A9D5-A95246292A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B5DD5-310F-4815-A572-F66FD533B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A7D4-8FA3-4487-80AE-9A935901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ED380-6269-4967-8297-64489093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F2F9-0D36-4D6E-887E-60622AA0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E363-0401-4A48-B68A-C17F7ED4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0CAEB-3D5F-4DB0-9716-F2C9787C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E881E-F857-45EF-A356-9AF4611F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58EB2-544C-4F5D-8931-C1D46954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700A-34F5-40A4-AE8B-F5CC95C8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4AD7F-27EB-4671-B215-879753FA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FED10-F8A5-486A-89F3-6C7D6753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34AD-0B4B-4279-BEC4-0858E27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079C-3FCF-4894-AE5C-529738C720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3C11-9B56-45E3-B01A-21F88AE13A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B6BC2-0682-4E44-A519-9E5C2CA6C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DABE0C-9E56-441F-91DB-5338641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0E0358-3447-4CC8-B10C-5FC944D0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4F0C4-4EAB-4CC2-BF4B-01D3909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79574-7751-4832-8539-9FBE9781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0D0E3-07B9-4588-B020-A19B1CAD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FB879-3BE8-4605-AA85-3D734F19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323886-C87E-4812-8195-CD53507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029B9-DC5E-4236-BA3D-7A07B5E6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0408-94DB-4293-99D4-A5365F9E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B157A8-C74D-4429-9B15-D80605ED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30CDB-15F1-4725-9A80-5554E54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252CD3-961B-439A-87AA-D31DB92245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4B350-B3A3-4E62-BE2C-E18F826A3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F1E97-A087-4C44-B0C4-868B923C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F698E-BEA3-49F9-AC01-5E09D650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B1999-CCB7-4958-A8AD-75DD7CF6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16FF5-F3AC-473F-BABA-B84ECD99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6A86B-74CF-4281-B8AC-7544A48A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79054-F4D3-47A6-B287-F06749E4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E6A33-2574-4350-818D-E51E449A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00B31-FF0E-4BAF-80DD-F22203C8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47E8E-9C13-4A80-AE68-4F26B67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D0FAA-61AC-4F84-B467-C7292C86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DA64B-04B4-4A77-AF09-09B9689F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4974E-04BD-4B7C-9BF8-33DFDA767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EF70-4456-4BD4-9AE4-6E2D05AF5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86101-E9D8-4B4A-AA53-8C04CC84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5F070-1624-4EF1-B369-F3A7D08A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5C413-ECE8-4D3A-9096-353AA181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5AC75-9ABD-4130-AEF9-615C176C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BC82-14F6-4F0A-8532-A12502A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49396-6DAA-4368-BC37-9BF039F9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12143-F036-44A9-928D-77DC636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1B25C-63B9-46A8-B284-B6B4FC19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118F9-0812-4988-9EE6-0478A411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EAF3E-A577-45E9-AC53-D83F1E52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661BC-9FD2-49EB-9AC1-F5487C39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0E0B5-DB1C-44A5-A590-C046FAF79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C3FDB-D845-407B-A392-66155E10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D8A44-C196-40C1-ACA2-C0D402E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81C1F-B2DB-4A6C-B62C-990E6A36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B3F10-49F6-4B0E-B9C2-1A7FCA4B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D2D2B-3418-4EA9-A456-29EF25DF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559B8-4283-4FE4-8D63-8969F1D1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2D3FA-C63B-4AC1-A389-5A6FBB31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39EFC-3BD4-47DC-BB11-4A2E5D3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0B9D2-69CD-44C1-9581-15C6A25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D2FC7-278D-44EC-B835-2000F4C1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84479-D270-4F14-A8EB-013E38E9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B4F0F-776F-4B39-B8A6-B8F57660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D3A34-9C5B-41F8-9A3F-E0F2A70F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441E8-3356-4D20-A532-3A756B35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0A277-901D-4432-BEDF-4D16A4C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7D179-6885-4006-9D63-A9ECB59F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67F91-69E1-45E9-9580-AE44F27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8632C-AB98-471D-803A-419BC02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6FA6F-99E1-4C0C-B433-A5D0BCF0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0F61E-21A5-4F7C-BEFD-EB70500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4F1AB-530E-4452-941B-C6905B8E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686B4-CC1C-4221-BD0B-504C9BA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4D375-222D-47EF-8691-23240AB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994B3-2376-49CC-AE2B-AA6D8E87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B666C-5C70-4DFF-8844-A463B54B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593BA-E498-42EF-B15A-B1A42CFB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A0FFC-12F8-4C08-A33F-4B77D7DD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7D30-F529-4B9B-957B-FC1DE5F9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131A8-1D25-4B14-BC4D-18A55402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9578D-F795-4170-BE70-0CF4083B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DE3EF-A957-4963-A8CA-0F4FFEAA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6EC0C-68E9-41E6-85C6-F0CD26E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7A167-291A-43DA-8A08-CF031D57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0C665-89E2-42DB-A520-07B0690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55044-AF1C-4E2C-A04F-D81FF3B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A7CFC-2573-4506-9F53-5264E75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CD00-3553-4AA3-AB9B-55E5681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A58A3-73DE-4180-BD2B-C1AA283C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43DAA-9E29-4FB9-AD33-C57E0BDF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BAD87-9FA1-4801-9661-65D5C1A8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68169-7D4C-494D-BF75-73305CD6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46F54-1D87-4285-9FD3-E21C5832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A3ABE-6F69-41E5-A36F-E7CCA1D4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D8A3A-5944-46B2-8ECA-13747BDE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AB89F-6DA5-4A34-9296-A7048E4A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F1BC5-4F35-4004-B704-BC823A3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C86F8-6355-4875-9CA3-8AFF408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294C-2ECF-43D3-B10F-107DC49F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41664-E9BB-4C5F-B6CA-C02AEF05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C9853-1678-4C3A-A1D1-A599403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A422E-EE00-4CF7-AF0E-1B2CBA09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9CFF2-657D-400B-809C-D87EB14B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B3E19-11CA-45A9-9299-6D7DACEE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6FCA3-65A1-47B1-9BED-4BF74F41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442CF-8BE4-4EB6-A3B6-32AD75E5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99BD3-78C4-4148-B5AD-A3C3E56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F10EB-8ADD-4F0F-9C70-9DE63DF9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266D3-A4B6-43C8-A5C5-6046B4C0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0A05C-DDBF-4F72-8B43-151CC23D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109E3-9822-4BDE-88D4-1CDCF31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55658-C588-4CA2-ACF9-C6A9887C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3540E-A5EE-4CCD-85D4-3A855746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8F773-5B31-448E-8CCC-1A8D94A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49693-D57D-4D3A-B972-FD5665F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54EC5-A5D0-4243-828D-1DC6B27F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3F5D9-2CE4-431D-9D4B-DC1BDF53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8A959-B614-46CD-898E-087EC64B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2E78F-1F86-45BB-893E-F67441A1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A67E3-A020-4334-ACA6-51CFB4C7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416A0-A61D-4258-8193-C5C4B5E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34EAD-C1A4-448A-8DBF-8E82A21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BCC36-08DC-4520-907D-9A80090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4F5F8-494D-4BD3-9B8D-779577B9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D6E41-8581-42D3-B25A-B169CF8D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396FB-7573-4F6E-9BAF-85C0C8E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5AC3A-5B86-41C9-9D2B-B6D776B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681E8-7379-41E8-854C-8D53F53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EE9BF-50DA-48B7-B245-0AD7F798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0104C-BA13-4DE8-9880-2BB7DA83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EB8CE-5D23-4140-A8C3-943C155F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7BCAE-4ED6-4D4F-A11C-4A365D3C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EC551-16A0-401C-894A-84BDF809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23C9E-607D-497B-AD81-A8C25100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12BB4-F9CF-4AF6-8740-C870486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1C025-1081-46E4-BEDB-CCB9A15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D9B74-DAC2-42CE-8AA4-37C018D0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9D14D-9355-41D6-AE04-672B2AA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B5056-54D6-40B6-B8B1-BFB02DC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7F49C-2EEB-4E66-9FFD-6C9EB82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0760D-0F19-4D31-97C5-A7AA614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AD8B9-286E-4CED-A35F-89CB28D7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78743-53FD-47E1-8267-CF04EC60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CCE82-90D7-4F82-844A-BEAB6581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09513-A283-49F5-A754-6E4B528D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98A35-8F27-4573-B5A2-A42ABD40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6881D-DE0F-45C7-8877-489D6782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17F21-7E85-4D61-B005-1A42825A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E5D8D-262F-478B-B1F4-AF140785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E097C-7FA0-4FFB-9ACE-895F7210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C4097-DD9F-43A6-8254-03E9215F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414EE-173E-43FB-B888-C7596BA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64C48-5681-4BEB-AD04-A474AF94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7BC87-9CF3-4F4B-9A39-BBE380F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FB06C-3B1D-4355-BD3F-874B69F8C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B3229-D861-4113-982F-10DECE19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91E29-958F-4E1E-BAEB-940BA0B4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E5F46-1AE5-4600-92F7-8DECD7D3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6E6C6-4836-490D-9305-710344AD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0CC2A-8BDE-4C8B-AA97-6E99DC31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5C5A2-E23D-435B-B99F-05D013B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27599-3BDB-4A69-95E8-19BB77AA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65444-CA77-4C46-A5DC-2F8901E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CAA99-3519-48AE-9D94-1D4C444D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3C628-C4CF-46AE-94C4-7FB64D7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F4A43-CDAB-4575-A5FF-351B252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80711-9393-4CF5-85E1-33022F6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6F983-6A6B-4E54-ACC4-111AB80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1F17D-780F-410A-B134-59BB28E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713E2-D947-44CD-99E3-EA4F89C6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D1E56-03E8-4598-8590-C4AAD8ED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EAC05-7F83-4FB1-B7FA-2F3AF333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ED364-4229-47D3-B7DD-2BC24888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8AEF4-ACAF-47BC-93B5-54CFF400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467B6-80C1-4039-A182-3926E4E5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D7754C-DC16-48D6-AF3E-C26FF85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F5617-592A-462C-A56E-B8428915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864E7-ECBB-4B35-80E8-92E86689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7E3FE-2F59-4C4A-9D08-52D2086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218E58-6314-452F-AE2C-D195A4F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6122B-8333-4A3F-BA1E-87CC4A8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700F3-8358-4240-8EA5-DCCE437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D78CD-2613-42A9-84B4-59FD1D3F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093B3-5AF6-4452-95E0-8A6C618C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4A51E-3497-4FA0-AB2F-198B072C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4EBCB-20A9-426A-8021-17A371D6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652BA-AC40-4E03-B691-75ACE33E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C8A36-A1D6-41F3-8447-B6EFA8D7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FEE2E-9978-40A6-8C00-D9150F5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FB47E-C8CE-404B-9978-E0FD69F4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F46EF-B061-48FA-A989-58F4D6A4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343DB-B7FF-4194-AFE7-5F25EAC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DD0CE-75C4-42BD-B24E-97170EE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2D1F3-1622-4C9D-8466-D91EE0D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418DE-2A9B-4B6D-BAD0-02F7440D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36E81-8963-4DDC-99C2-83FA7F1A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F1326-64DA-4A18-B672-1B2E3C97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7F100-D2A3-4D1D-A5C1-8FD166DA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4D4C-58D3-468F-9680-FD0CE64F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A3CF4-3951-40C7-9B03-63BAB90E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F4717-7AED-4306-B0E0-77AFC49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1D400-452F-4E80-AD02-C18244C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848F7-4CDE-47DB-85DC-64FEA010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876240-1E84-4523-ACFB-7BE8F5BA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D75D4-B2FF-4918-8156-21E50454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DDEDE-1619-4A22-B393-C5ECE9BF4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D38D-978B-4F20-B207-ADCFD12C9E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251B-1BC9-46C0-AFAE-E6A02F39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1A45-2D66-4458-A488-7C5B442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67A6-3966-48E2-BCA1-11869400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1DAE-7D8B-4F7E-B684-040DF853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66BB-4EDE-4975-BDA5-1D28448B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2A1E-BBF9-43F4-A523-F9793F43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1B78-6EC0-4C47-A73B-42684D31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DAD2-A713-497F-86DB-388718BE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9031-DE91-469B-8AE0-C620BF0C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1F76-FB0C-449C-A0E6-3650C0B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1EAD-D784-47F6-AD6C-31773393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B291-B55A-44C9-9B18-A0A639BC1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8B61D-D0CB-43DA-AD17-4EB51C909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9591-37C2-40CF-A13E-1B9D13EC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FE581-40AF-4C5E-B917-462A635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749A1-4DFA-4D64-894B-C9B88A3A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590EB-861F-41C0-8A7F-A9A7CD6E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FBA8D-1FEA-472C-8BD2-3E79715C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B06D7-E48F-4AA8-B40F-196E489A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7F9B3-92F6-4593-9CDD-2CE45793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97EEA-DBDC-4693-96C3-6E0E1CC3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219B4-A4AC-4625-B13C-D8BACB03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5F6AF-F7E3-488F-8EBD-56361B9A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C5C23-4818-4446-BC92-2E4BE63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1579-9E03-41F7-B3D8-D963EB5D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EB711-B2DF-4125-8227-DFD3AC12F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29ECA-9FF8-4915-8B78-D16DC2E3C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88ACCA-B886-4F22-8765-B15B331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258DC-7B23-4BDC-81FF-69B198F8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DBD037-4FB7-45F7-A94E-3ED02447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F2645D-E815-4C4D-A6BE-3ABF5F0E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EAB1F-E366-4FBE-A79E-D6659422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FF307-6C67-4493-A564-1CC8B913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41E4A4-CC27-4333-AA7E-87B52EE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CEF2D-3445-4EC1-9B24-A86A6AE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433B-EAA7-43B6-806F-F33FB03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48DFCB-916B-4A4E-9086-32A18586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3F8634-7DF0-4D26-95D1-23E2A37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09368-BE9A-44E1-A2DB-70A812DCD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9083E-A89B-4474-A99F-61AAD6F52F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F78A-7D3B-4FBD-AB13-68C5F581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5FDAE-5E8C-4013-98BB-58B8A1D3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0E7E-2952-453F-AC1C-918083A7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64C8-4A34-4DC9-B9D2-D0D97D82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71744-4B63-4313-BAE1-9BD5D247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7482-0E03-4BCE-93B5-D3A57AD3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5E44-D3C0-460D-BA66-C7B574AE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9E41-046D-4883-A9EE-93B51C93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085B3-EDB7-4495-B2C3-C05159AD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3B6B-2A13-40D1-9D86-AF70CFEC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5C3E9-419D-4B8E-9D0F-3EC61B9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39AD-43E1-41B0-B053-6FBE392FC7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5DC00-7984-4AB1-B8EF-A1A612CD19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92FBC-508D-4C0E-B59C-A836BDEC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0D22D-E11E-4BF9-BC03-BC144FBE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51D0B-0C4A-4DF7-8EE5-D07EF1B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8B913-67C1-403D-BA61-17332C98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E83E-2754-4FAC-8326-E2712656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6319E-6EF9-444E-BD26-C5D31795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47856-9D76-42FC-AA52-404851EA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76FE6-B8C9-42E5-8C16-59B67079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17826-B980-43B2-B965-40CA9437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60081-8427-40A3-8B96-690FDCF8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9A0B6-B242-4F83-A2E5-304A6A2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EABB5-217F-4236-B423-3DBF3E33BB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08ED33-237C-454A-BBB6-F122E7F47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AE9718-1F36-42A3-AC28-13B4DD66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7B503-6F76-42D9-8100-365B8C80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675-480D-4B61-ADC4-157352A4B9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FD78-7B28-4FC7-B9FF-11403E59DA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6A52-F97D-4ACF-8D9C-4FE60EC290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B95-DF28-41CC-AAC4-010B8CAAD6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7030-DDAC-4AFB-AEB2-04DD420211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32DB-A86A-4C02-838C-D1FA850961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C32-786E-4EBC-8079-7D8B8677F6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AE94-EA12-4CBC-841F-CA78A9FF10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B72F-DAF9-430B-B315-EBEAE5F78D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3211-FD04-4706-909B-F24B11019D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5FB8-05B4-439C-BCEA-966F9B7491F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4AD-E306-4C69-AE98-F4310AE40C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7390-8B8A-4685-8819-8D41A37CFA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463-02D0-42BA-BBAB-B88CEA7B51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3F39-50F4-47EB-9D91-4DD16B1D03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B390-6875-4769-810A-6E9468D5D9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B559-3CF3-4DED-974D-8AB104EA81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4226-CF33-4B05-A58F-303F8B2960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4D8-E222-47A2-B2D8-34A6962B8E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62D0-EDEC-44D7-A630-AAF844F628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1A3-1A48-4E16-96CF-948BE1D6A5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D50-FE11-4424-A064-1614F46788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3E9-A208-42A8-8A84-87FD3D429E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6AEA-0F8D-4249-BE3D-C0AAB6AD21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941480" y="2784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436680" y="274968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~ 5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认 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790880" cy="360"/>
            <a:chOff x="2284560" y="2448000"/>
            <a:chExt cx="4790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790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79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777960" y="181620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~5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4097"/>
          <p:cNvGrpSpPr/>
          <p:nvPr/>
        </p:nvGrpSpPr>
        <p:grpSpPr>
          <a:xfrm>
            <a:off x="5713560" y="641520"/>
            <a:ext cx="1776240" cy="1199880"/>
            <a:chOff x="5713560" y="641520"/>
            <a:chExt cx="1776240" cy="1199880"/>
          </a:xfrm>
        </p:grpSpPr>
        <p:sp>
          <p:nvSpPr>
            <p:cNvPr id="999" name="圆角矩形 4098"/>
            <p:cNvSpPr/>
            <p:nvPr/>
          </p:nvSpPr>
          <p:spPr>
            <a:xfrm>
              <a:off x="5713560" y="641520"/>
              <a:ext cx="1776240" cy="1199880"/>
            </a:xfrm>
            <a:prstGeom prst="roundRect">
              <a:avLst>
                <a:gd name="adj" fmla="val 15606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4099" descr="P-014-3"/>
            <p:cNvPicPr/>
            <p:nvPr/>
          </p:nvPicPr>
          <p:blipFill>
            <a:blip r:embed="rId1"/>
            <a:stretch/>
          </p:blipFill>
          <p:spPr>
            <a:xfrm>
              <a:off x="5824800" y="766440"/>
              <a:ext cx="151920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4100"/>
          <p:cNvGrpSpPr/>
          <p:nvPr/>
        </p:nvGrpSpPr>
        <p:grpSpPr>
          <a:xfrm>
            <a:off x="3263760" y="641520"/>
            <a:ext cx="1800360" cy="1199880"/>
            <a:chOff x="3263760" y="641520"/>
            <a:chExt cx="1800360" cy="1199880"/>
          </a:xfrm>
        </p:grpSpPr>
        <p:sp>
          <p:nvSpPr>
            <p:cNvPr id="1002" name="圆角矩形 4101"/>
            <p:cNvSpPr/>
            <p:nvPr/>
          </p:nvSpPr>
          <p:spPr>
            <a:xfrm>
              <a:off x="3263760" y="641520"/>
              <a:ext cx="1800360" cy="1199880"/>
            </a:xfrm>
            <a:prstGeom prst="roundRect">
              <a:avLst>
                <a:gd name="adj" fmla="val 15606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3" name="图片 4102" descr="P-014-2"/>
            <p:cNvPicPr/>
            <p:nvPr/>
          </p:nvPicPr>
          <p:blipFill>
            <a:blip r:embed="rId2"/>
            <a:stretch/>
          </p:blipFill>
          <p:spPr>
            <a:xfrm>
              <a:off x="3336840" y="712440"/>
              <a:ext cx="1595520" cy="10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4" name="组合 4103"/>
          <p:cNvGrpSpPr/>
          <p:nvPr/>
        </p:nvGrpSpPr>
        <p:grpSpPr>
          <a:xfrm>
            <a:off x="1081080" y="641520"/>
            <a:ext cx="1535040" cy="1199880"/>
            <a:chOff x="1081080" y="641520"/>
            <a:chExt cx="1535040" cy="1199880"/>
          </a:xfrm>
        </p:grpSpPr>
        <p:sp>
          <p:nvSpPr>
            <p:cNvPr id="1005" name="圆角矩形 4104"/>
            <p:cNvSpPr/>
            <p:nvPr/>
          </p:nvSpPr>
          <p:spPr>
            <a:xfrm>
              <a:off x="1081080" y="641520"/>
              <a:ext cx="1535040" cy="1199880"/>
            </a:xfrm>
            <a:prstGeom prst="roundRect">
              <a:avLst>
                <a:gd name="adj" fmla="val 15606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6" name="图片 4105" descr="P-014-1"/>
            <p:cNvPicPr/>
            <p:nvPr/>
          </p:nvPicPr>
          <p:blipFill>
            <a:blip r:embed="rId3"/>
            <a:stretch/>
          </p:blipFill>
          <p:spPr>
            <a:xfrm>
              <a:off x="1201680" y="814320"/>
              <a:ext cx="1295280" cy="88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图片 4106" descr="p-14-1"/>
          <p:cNvPicPr/>
          <p:nvPr/>
        </p:nvPicPr>
        <p:blipFill>
          <a:blip r:embed="rId4"/>
          <a:stretch/>
        </p:blipFill>
        <p:spPr>
          <a:xfrm>
            <a:off x="2160720" y="2060640"/>
            <a:ext cx="318960" cy="673200"/>
          </a:xfrm>
          <a:prstGeom prst="rect">
            <a:avLst/>
          </a:prstGeom>
          <a:ln w="0">
            <a:noFill/>
          </a:ln>
        </p:spPr>
      </p:pic>
      <p:pic>
        <p:nvPicPr>
          <p:cNvPr id="1008" name="图片 4107" descr="p-14-2"/>
          <p:cNvPicPr/>
          <p:nvPr/>
        </p:nvPicPr>
        <p:blipFill>
          <a:blip r:embed="rId5"/>
          <a:stretch/>
        </p:blipFill>
        <p:spPr>
          <a:xfrm>
            <a:off x="4514760" y="2060640"/>
            <a:ext cx="500040" cy="67320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4108" descr="p-14-3"/>
          <p:cNvPicPr/>
          <p:nvPr/>
        </p:nvPicPr>
        <p:blipFill>
          <a:blip r:embed="rId6"/>
          <a:stretch/>
        </p:blipFill>
        <p:spPr>
          <a:xfrm>
            <a:off x="6688080" y="2060640"/>
            <a:ext cx="801720" cy="70488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4109" descr="p-14-6"/>
          <p:cNvPicPr/>
          <p:nvPr/>
        </p:nvPicPr>
        <p:blipFill>
          <a:blip r:embed="rId7"/>
          <a:srcRect l="0" t="0" r="83053" b="0"/>
          <a:stretch/>
        </p:blipFill>
        <p:spPr>
          <a:xfrm>
            <a:off x="1216080" y="2009880"/>
            <a:ext cx="811080" cy="82872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4110" descr="p-14-6"/>
          <p:cNvPicPr/>
          <p:nvPr/>
        </p:nvPicPr>
        <p:blipFill>
          <a:blip r:embed="rId8"/>
          <a:srcRect l="18341" t="0" r="64148" b="0"/>
          <a:stretch/>
        </p:blipFill>
        <p:spPr>
          <a:xfrm>
            <a:off x="3529080" y="200988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4111" descr="p-14-6"/>
          <p:cNvPicPr/>
          <p:nvPr/>
        </p:nvPicPr>
        <p:blipFill>
          <a:blip r:embed="rId9"/>
          <a:srcRect l="37281" t="0" r="43815" b="0"/>
          <a:stretch/>
        </p:blipFill>
        <p:spPr>
          <a:xfrm>
            <a:off x="5783400" y="2009880"/>
            <a:ext cx="9046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圆角矩形 5121"/>
          <p:cNvSpPr/>
          <p:nvPr/>
        </p:nvSpPr>
        <p:spPr>
          <a:xfrm>
            <a:off x="4459320" y="555480"/>
            <a:ext cx="2144520" cy="1200240"/>
          </a:xfrm>
          <a:prstGeom prst="roundRect">
            <a:avLst>
              <a:gd name="adj" fmla="val 15606"/>
            </a:avLst>
          </a:prstGeom>
          <a:solidFill>
            <a:srgbClr val="ffffff">
              <a:alpha val="90000"/>
            </a:srgbClr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图片 5122" descr="P-014-5"/>
          <p:cNvPicPr/>
          <p:nvPr/>
        </p:nvPicPr>
        <p:blipFill>
          <a:blip r:embed="rId1"/>
          <a:stretch/>
        </p:blipFill>
        <p:spPr>
          <a:xfrm>
            <a:off x="4603680" y="627120"/>
            <a:ext cx="1884600" cy="1095480"/>
          </a:xfrm>
          <a:prstGeom prst="rect">
            <a:avLst/>
          </a:prstGeom>
          <a:ln w="0">
            <a:noFill/>
          </a:ln>
        </p:spPr>
      </p:pic>
      <p:grpSp>
        <p:nvGrpSpPr>
          <p:cNvPr id="1015" name="组合 5123"/>
          <p:cNvGrpSpPr/>
          <p:nvPr/>
        </p:nvGrpSpPr>
        <p:grpSpPr>
          <a:xfrm>
            <a:off x="1650960" y="555480"/>
            <a:ext cx="1943280" cy="1200240"/>
            <a:chOff x="1650960" y="555480"/>
            <a:chExt cx="1943280" cy="1200240"/>
          </a:xfrm>
        </p:grpSpPr>
        <p:sp>
          <p:nvSpPr>
            <p:cNvPr id="1016" name="圆角矩形 5124"/>
            <p:cNvSpPr/>
            <p:nvPr/>
          </p:nvSpPr>
          <p:spPr>
            <a:xfrm>
              <a:off x="1650960" y="555480"/>
              <a:ext cx="1943280" cy="1200240"/>
            </a:xfrm>
            <a:prstGeom prst="roundRect">
              <a:avLst>
                <a:gd name="adj" fmla="val 15606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图片 5125" descr="P-014-4"/>
            <p:cNvPicPr/>
            <p:nvPr/>
          </p:nvPicPr>
          <p:blipFill>
            <a:blip r:embed="rId2"/>
            <a:stretch/>
          </p:blipFill>
          <p:spPr>
            <a:xfrm>
              <a:off x="1766880" y="799920"/>
              <a:ext cx="1749240" cy="6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8" name="图片 5126" descr="p-14-5"/>
          <p:cNvPicPr/>
          <p:nvPr/>
        </p:nvPicPr>
        <p:blipFill>
          <a:blip r:embed="rId3"/>
          <a:stretch/>
        </p:blipFill>
        <p:spPr>
          <a:xfrm>
            <a:off x="5667480" y="1947960"/>
            <a:ext cx="965160" cy="91116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5127" descr="p-14-4"/>
          <p:cNvPicPr/>
          <p:nvPr/>
        </p:nvPicPr>
        <p:blipFill>
          <a:blip r:embed="rId4"/>
          <a:stretch/>
        </p:blipFill>
        <p:spPr>
          <a:xfrm>
            <a:off x="2660760" y="2098800"/>
            <a:ext cx="798480" cy="7635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128" descr="p-14-6"/>
          <p:cNvPicPr/>
          <p:nvPr/>
        </p:nvPicPr>
        <p:blipFill>
          <a:blip r:embed="rId5"/>
          <a:srcRect l="76020" t="0" r="0" b="0"/>
          <a:stretch/>
        </p:blipFill>
        <p:spPr>
          <a:xfrm>
            <a:off x="4664160" y="2066760"/>
            <a:ext cx="1147680" cy="82872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5129" descr="p-14-6"/>
          <p:cNvPicPr/>
          <p:nvPr/>
        </p:nvPicPr>
        <p:blipFill>
          <a:blip r:embed="rId6"/>
          <a:srcRect l="57015" t="0" r="25872" b="0"/>
          <a:stretch/>
        </p:blipFill>
        <p:spPr>
          <a:xfrm>
            <a:off x="1650960" y="2066760"/>
            <a:ext cx="81936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内容占位符 6145" descr="图片1"/>
          <p:cNvPicPr/>
          <p:nvPr/>
        </p:nvPicPr>
        <p:blipFill>
          <a:blip r:embed="rId1"/>
          <a:stretch/>
        </p:blipFill>
        <p:spPr>
          <a:xfrm>
            <a:off x="41400" y="2584440"/>
            <a:ext cx="1481040" cy="1041480"/>
          </a:xfrm>
          <a:prstGeom prst="rect">
            <a:avLst/>
          </a:prstGeom>
          <a:ln w="0">
            <a:noFill/>
          </a:ln>
        </p:spPr>
      </p:pic>
      <p:sp>
        <p:nvSpPr>
          <p:cNvPr id="1023" name="矩形 6147"/>
          <p:cNvSpPr/>
          <p:nvPr/>
        </p:nvSpPr>
        <p:spPr>
          <a:xfrm>
            <a:off x="457200" y="1685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      2      3       4    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组合 6148"/>
          <p:cNvGrpSpPr/>
          <p:nvPr/>
        </p:nvGrpSpPr>
        <p:grpSpPr>
          <a:xfrm>
            <a:off x="92160" y="4286160"/>
            <a:ext cx="1401840" cy="730080"/>
            <a:chOff x="92160" y="4286160"/>
            <a:chExt cx="1401840" cy="730080"/>
          </a:xfrm>
        </p:grpSpPr>
        <p:sp>
          <p:nvSpPr>
            <p:cNvPr id="1025" name="矩形 6149"/>
            <p:cNvSpPr/>
            <p:nvPr/>
          </p:nvSpPr>
          <p:spPr>
            <a:xfrm>
              <a:off x="92160" y="4286160"/>
              <a:ext cx="1401840" cy="730080"/>
            </a:xfrm>
            <a:prstGeom prst="rect">
              <a:avLst/>
            </a:prstGeom>
            <a:solidFill>
              <a:srgbClr val="71ffff">
                <a:alpha val="49000"/>
              </a:srgbClr>
            </a:solidFill>
            <a:ln w="19080">
              <a:solidFill>
                <a:srgbClr val="00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椭圆 6150"/>
            <p:cNvSpPr/>
            <p:nvPr/>
          </p:nvSpPr>
          <p:spPr>
            <a:xfrm>
              <a:off x="162000" y="4392360"/>
              <a:ext cx="206280" cy="20664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6151"/>
          <p:cNvGrpSpPr/>
          <p:nvPr/>
        </p:nvGrpSpPr>
        <p:grpSpPr>
          <a:xfrm>
            <a:off x="1878120" y="4286160"/>
            <a:ext cx="1401480" cy="730080"/>
            <a:chOff x="1878120" y="4286160"/>
            <a:chExt cx="1401480" cy="730080"/>
          </a:xfrm>
        </p:grpSpPr>
        <p:sp>
          <p:nvSpPr>
            <p:cNvPr id="1028" name="矩形 6152"/>
            <p:cNvSpPr/>
            <p:nvPr/>
          </p:nvSpPr>
          <p:spPr>
            <a:xfrm>
              <a:off x="1878120" y="4286160"/>
              <a:ext cx="1401480" cy="730080"/>
            </a:xfrm>
            <a:prstGeom prst="rect">
              <a:avLst/>
            </a:prstGeom>
            <a:solidFill>
              <a:srgbClr val="71ffff">
                <a:alpha val="49000"/>
              </a:srgbClr>
            </a:solidFill>
            <a:ln w="19080">
              <a:solidFill>
                <a:srgbClr val="00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椭圆 6153"/>
            <p:cNvSpPr/>
            <p:nvPr/>
          </p:nvSpPr>
          <p:spPr>
            <a:xfrm>
              <a:off x="1947600" y="4392360"/>
              <a:ext cx="205920" cy="20664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椭圆 6154"/>
            <p:cNvSpPr/>
            <p:nvPr/>
          </p:nvSpPr>
          <p:spPr>
            <a:xfrm>
              <a:off x="2207880" y="4390920"/>
              <a:ext cx="20592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6155"/>
          <p:cNvGrpSpPr/>
          <p:nvPr/>
        </p:nvGrpSpPr>
        <p:grpSpPr>
          <a:xfrm>
            <a:off x="3668760" y="4286160"/>
            <a:ext cx="1401840" cy="730080"/>
            <a:chOff x="3668760" y="4286160"/>
            <a:chExt cx="1401840" cy="730080"/>
          </a:xfrm>
        </p:grpSpPr>
        <p:sp>
          <p:nvSpPr>
            <p:cNvPr id="1032" name="矩形 6156"/>
            <p:cNvSpPr/>
            <p:nvPr/>
          </p:nvSpPr>
          <p:spPr>
            <a:xfrm>
              <a:off x="3668760" y="4286160"/>
              <a:ext cx="1401840" cy="730080"/>
            </a:xfrm>
            <a:prstGeom prst="rect">
              <a:avLst/>
            </a:prstGeom>
            <a:solidFill>
              <a:srgbClr val="71ffff">
                <a:alpha val="49000"/>
              </a:srgbClr>
            </a:solidFill>
            <a:ln w="19080">
              <a:solidFill>
                <a:srgbClr val="00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6157"/>
            <p:cNvSpPr/>
            <p:nvPr/>
          </p:nvSpPr>
          <p:spPr>
            <a:xfrm>
              <a:off x="3738600" y="4392360"/>
              <a:ext cx="206280" cy="20664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6158"/>
            <p:cNvSpPr/>
            <p:nvPr/>
          </p:nvSpPr>
          <p:spPr>
            <a:xfrm>
              <a:off x="3998880" y="4390920"/>
              <a:ext cx="2062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6159"/>
            <p:cNvSpPr/>
            <p:nvPr/>
          </p:nvSpPr>
          <p:spPr>
            <a:xfrm>
              <a:off x="4257720" y="4390920"/>
              <a:ext cx="2080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6160"/>
          <p:cNvGrpSpPr/>
          <p:nvPr/>
        </p:nvGrpSpPr>
        <p:grpSpPr>
          <a:xfrm>
            <a:off x="5611680" y="4286160"/>
            <a:ext cx="1401840" cy="730080"/>
            <a:chOff x="5611680" y="4286160"/>
            <a:chExt cx="1401840" cy="730080"/>
          </a:xfrm>
        </p:grpSpPr>
        <p:sp>
          <p:nvSpPr>
            <p:cNvPr id="1037" name="矩形 6161"/>
            <p:cNvSpPr/>
            <p:nvPr/>
          </p:nvSpPr>
          <p:spPr>
            <a:xfrm>
              <a:off x="5611680" y="4286160"/>
              <a:ext cx="1401840" cy="730080"/>
            </a:xfrm>
            <a:prstGeom prst="rect">
              <a:avLst/>
            </a:prstGeom>
            <a:solidFill>
              <a:srgbClr val="71ffff">
                <a:alpha val="49000"/>
              </a:srgbClr>
            </a:solidFill>
            <a:ln w="19080">
              <a:solidFill>
                <a:srgbClr val="00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6162"/>
            <p:cNvSpPr/>
            <p:nvPr/>
          </p:nvSpPr>
          <p:spPr>
            <a:xfrm>
              <a:off x="5681520" y="4392360"/>
              <a:ext cx="206280" cy="20664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椭圆 6163"/>
            <p:cNvSpPr/>
            <p:nvPr/>
          </p:nvSpPr>
          <p:spPr>
            <a:xfrm>
              <a:off x="5941800" y="4390920"/>
              <a:ext cx="2062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椭圆 6164"/>
            <p:cNvSpPr/>
            <p:nvPr/>
          </p:nvSpPr>
          <p:spPr>
            <a:xfrm>
              <a:off x="6200640" y="4390920"/>
              <a:ext cx="2080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椭圆 6165"/>
            <p:cNvSpPr/>
            <p:nvPr/>
          </p:nvSpPr>
          <p:spPr>
            <a:xfrm>
              <a:off x="6460920" y="4390920"/>
              <a:ext cx="2062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6166"/>
          <p:cNvGrpSpPr/>
          <p:nvPr/>
        </p:nvGrpSpPr>
        <p:grpSpPr>
          <a:xfrm>
            <a:off x="7423200" y="4286160"/>
            <a:ext cx="1401840" cy="730080"/>
            <a:chOff x="7423200" y="4286160"/>
            <a:chExt cx="1401840" cy="730080"/>
          </a:xfrm>
        </p:grpSpPr>
        <p:sp>
          <p:nvSpPr>
            <p:cNvPr id="1043" name="矩形 6167"/>
            <p:cNvSpPr/>
            <p:nvPr/>
          </p:nvSpPr>
          <p:spPr>
            <a:xfrm>
              <a:off x="7423200" y="4286160"/>
              <a:ext cx="1401840" cy="730080"/>
            </a:xfrm>
            <a:prstGeom prst="rect">
              <a:avLst/>
            </a:prstGeom>
            <a:solidFill>
              <a:srgbClr val="71ffff">
                <a:alpha val="49000"/>
              </a:srgbClr>
            </a:solidFill>
            <a:ln w="19080">
              <a:solidFill>
                <a:srgbClr val="00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6168"/>
            <p:cNvSpPr/>
            <p:nvPr/>
          </p:nvSpPr>
          <p:spPr>
            <a:xfrm>
              <a:off x="7493040" y="4392360"/>
              <a:ext cx="206280" cy="20664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6169"/>
            <p:cNvSpPr/>
            <p:nvPr/>
          </p:nvSpPr>
          <p:spPr>
            <a:xfrm>
              <a:off x="7753320" y="4390920"/>
              <a:ext cx="2062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6170"/>
            <p:cNvSpPr/>
            <p:nvPr/>
          </p:nvSpPr>
          <p:spPr>
            <a:xfrm>
              <a:off x="8012160" y="4390920"/>
              <a:ext cx="2080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6171"/>
            <p:cNvSpPr/>
            <p:nvPr/>
          </p:nvSpPr>
          <p:spPr>
            <a:xfrm>
              <a:off x="8272440" y="4390920"/>
              <a:ext cx="2062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6172"/>
            <p:cNvSpPr/>
            <p:nvPr/>
          </p:nvSpPr>
          <p:spPr>
            <a:xfrm>
              <a:off x="8531280" y="4390920"/>
              <a:ext cx="208080" cy="2080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9" name="内容占位符 6173" descr="图片1"/>
          <p:cNvPicPr/>
          <p:nvPr/>
        </p:nvPicPr>
        <p:blipFill>
          <a:blip r:embed="rId2"/>
          <a:stretch/>
        </p:blipFill>
        <p:spPr>
          <a:xfrm>
            <a:off x="3568680" y="2579760"/>
            <a:ext cx="1546200" cy="10414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174" descr="图片1"/>
          <p:cNvPicPr/>
          <p:nvPr/>
        </p:nvPicPr>
        <p:blipFill>
          <a:blip r:embed="rId3"/>
          <a:stretch/>
        </p:blipFill>
        <p:spPr>
          <a:xfrm>
            <a:off x="1720800" y="2584440"/>
            <a:ext cx="1479600" cy="104148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6175" descr="图片1"/>
          <p:cNvPicPr/>
          <p:nvPr/>
        </p:nvPicPr>
        <p:blipFill>
          <a:blip r:embed="rId4"/>
          <a:stretch/>
        </p:blipFill>
        <p:spPr>
          <a:xfrm>
            <a:off x="5505480" y="2577960"/>
            <a:ext cx="1484280" cy="104796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6176" descr="图片1"/>
          <p:cNvPicPr/>
          <p:nvPr/>
        </p:nvPicPr>
        <p:blipFill>
          <a:blip r:embed="rId5"/>
          <a:stretch/>
        </p:blipFill>
        <p:spPr>
          <a:xfrm>
            <a:off x="7308720" y="2549520"/>
            <a:ext cx="1578240" cy="1076400"/>
          </a:xfrm>
          <a:prstGeom prst="rect">
            <a:avLst/>
          </a:prstGeom>
          <a:ln w="0">
            <a:noFill/>
          </a:ln>
        </p:spPr>
      </p:pic>
      <p:sp>
        <p:nvSpPr>
          <p:cNvPr id="1053" name="流程图: 联系 6177"/>
          <p:cNvSpPr/>
          <p:nvPr/>
        </p:nvSpPr>
        <p:spPr>
          <a:xfrm>
            <a:off x="185760" y="2955960"/>
            <a:ext cx="17928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流程图: 联系 6178"/>
          <p:cNvSpPr/>
          <p:nvPr/>
        </p:nvSpPr>
        <p:spPr>
          <a:xfrm>
            <a:off x="1878120" y="2925720"/>
            <a:ext cx="17928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流程图: 联系 6179"/>
          <p:cNvSpPr/>
          <p:nvPr/>
        </p:nvSpPr>
        <p:spPr>
          <a:xfrm>
            <a:off x="2992320" y="2984400"/>
            <a:ext cx="17964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流程图: 联系 6180"/>
          <p:cNvSpPr/>
          <p:nvPr/>
        </p:nvSpPr>
        <p:spPr>
          <a:xfrm>
            <a:off x="3746520" y="2955960"/>
            <a:ext cx="17928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流程图: 联系 6181"/>
          <p:cNvSpPr/>
          <p:nvPr/>
        </p:nvSpPr>
        <p:spPr>
          <a:xfrm>
            <a:off x="3978360" y="2970360"/>
            <a:ext cx="179280" cy="35856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流程图: 联系 6182"/>
          <p:cNvSpPr/>
          <p:nvPr/>
        </p:nvSpPr>
        <p:spPr>
          <a:xfrm>
            <a:off x="5678640" y="2955960"/>
            <a:ext cx="18072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流程图: 联系 6183"/>
          <p:cNvSpPr/>
          <p:nvPr/>
        </p:nvSpPr>
        <p:spPr>
          <a:xfrm>
            <a:off x="5911920" y="2955960"/>
            <a:ext cx="17928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流程图: 联系 6184"/>
          <p:cNvSpPr/>
          <p:nvPr/>
        </p:nvSpPr>
        <p:spPr>
          <a:xfrm>
            <a:off x="6132600" y="2955960"/>
            <a:ext cx="17928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流程图: 联系 6185"/>
          <p:cNvSpPr/>
          <p:nvPr/>
        </p:nvSpPr>
        <p:spPr>
          <a:xfrm>
            <a:off x="6765840" y="2970360"/>
            <a:ext cx="179640" cy="35856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流程图: 联系 6186"/>
          <p:cNvSpPr/>
          <p:nvPr/>
        </p:nvSpPr>
        <p:spPr>
          <a:xfrm>
            <a:off x="7494480" y="2948040"/>
            <a:ext cx="179640" cy="35856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流程图: 联系 6187"/>
          <p:cNvSpPr/>
          <p:nvPr/>
        </p:nvSpPr>
        <p:spPr>
          <a:xfrm>
            <a:off x="7711920" y="2955960"/>
            <a:ext cx="17964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流程图: 联系 6188"/>
          <p:cNvSpPr/>
          <p:nvPr/>
        </p:nvSpPr>
        <p:spPr>
          <a:xfrm>
            <a:off x="7932600" y="2955960"/>
            <a:ext cx="17964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流程图: 联系 6189"/>
          <p:cNvSpPr/>
          <p:nvPr/>
        </p:nvSpPr>
        <p:spPr>
          <a:xfrm>
            <a:off x="8156520" y="2955960"/>
            <a:ext cx="17928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流程图: 联系 6190"/>
          <p:cNvSpPr/>
          <p:nvPr/>
        </p:nvSpPr>
        <p:spPr>
          <a:xfrm>
            <a:off x="4890960" y="2970360"/>
            <a:ext cx="179640" cy="35856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流程图: 联系 6191"/>
          <p:cNvSpPr/>
          <p:nvPr/>
        </p:nvSpPr>
        <p:spPr>
          <a:xfrm>
            <a:off x="8674200" y="2955960"/>
            <a:ext cx="179280" cy="358920"/>
          </a:xfrm>
          <a:prstGeom prst="flowChartConnector">
            <a:avLst/>
          </a:prstGeom>
          <a:solidFill>
            <a:srgbClr val="f0467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69" name="圆角矩形 5" descr=""/>
            <p:cNvPicPr/>
            <p:nvPr/>
          </p:nvPicPr>
          <p:blipFill>
            <a:blip r:embed="rId6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0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71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3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4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3958 0 E">
                                      <p:cBhvr>
                                        <p:cTn id="18" dur="2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2708 -0.00213 E">
                                      <p:cBhvr>
                                        <p:cTn id="22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4514 -0.00213 E">
                                      <p:cBhvr>
                                        <p:cTn id="26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319 0 E">
                                      <p:cBhvr>
                                        <p:cTn id="30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组合 7169"/>
          <p:cNvGrpSpPr/>
          <p:nvPr/>
        </p:nvGrpSpPr>
        <p:grpSpPr>
          <a:xfrm>
            <a:off x="669960" y="2773440"/>
            <a:ext cx="1228680" cy="1266840"/>
            <a:chOff x="669960" y="2773440"/>
            <a:chExt cx="1228680" cy="1266840"/>
          </a:xfrm>
        </p:grpSpPr>
        <p:sp>
          <p:nvSpPr>
            <p:cNvPr id="1080" name="矩形 7170"/>
            <p:cNvSpPr/>
            <p:nvPr/>
          </p:nvSpPr>
          <p:spPr>
            <a:xfrm>
              <a:off x="669960" y="2773440"/>
              <a:ext cx="1228680" cy="12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直接连接符 7171"/>
            <p:cNvSpPr/>
            <p:nvPr/>
          </p:nvSpPr>
          <p:spPr>
            <a:xfrm>
              <a:off x="669960" y="3406680"/>
              <a:ext cx="122868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直接连接符 7172"/>
            <p:cNvSpPr/>
            <p:nvPr/>
          </p:nvSpPr>
          <p:spPr>
            <a:xfrm>
              <a:off x="1284120" y="2773440"/>
              <a:ext cx="720" cy="126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7173"/>
          <p:cNvGrpSpPr/>
          <p:nvPr/>
        </p:nvGrpSpPr>
        <p:grpSpPr>
          <a:xfrm>
            <a:off x="2228760" y="2773440"/>
            <a:ext cx="1228680" cy="1266840"/>
            <a:chOff x="2228760" y="2773440"/>
            <a:chExt cx="1228680" cy="1266840"/>
          </a:xfrm>
        </p:grpSpPr>
        <p:sp>
          <p:nvSpPr>
            <p:cNvPr id="1084" name="矩形 7174"/>
            <p:cNvSpPr/>
            <p:nvPr/>
          </p:nvSpPr>
          <p:spPr>
            <a:xfrm>
              <a:off x="2228760" y="2773440"/>
              <a:ext cx="1228680" cy="12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直接连接符 7175"/>
            <p:cNvSpPr/>
            <p:nvPr/>
          </p:nvSpPr>
          <p:spPr>
            <a:xfrm>
              <a:off x="2228760" y="3406680"/>
              <a:ext cx="122868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直接连接符 7176"/>
            <p:cNvSpPr/>
            <p:nvPr/>
          </p:nvSpPr>
          <p:spPr>
            <a:xfrm>
              <a:off x="2842920" y="2773440"/>
              <a:ext cx="720" cy="126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7177"/>
          <p:cNvGrpSpPr/>
          <p:nvPr/>
        </p:nvGrpSpPr>
        <p:grpSpPr>
          <a:xfrm>
            <a:off x="3789360" y="2773440"/>
            <a:ext cx="1228680" cy="1266840"/>
            <a:chOff x="3789360" y="2773440"/>
            <a:chExt cx="1228680" cy="1266840"/>
          </a:xfrm>
        </p:grpSpPr>
        <p:sp>
          <p:nvSpPr>
            <p:cNvPr id="1088" name="矩形 7178"/>
            <p:cNvSpPr/>
            <p:nvPr/>
          </p:nvSpPr>
          <p:spPr>
            <a:xfrm>
              <a:off x="3789360" y="2773440"/>
              <a:ext cx="1228680" cy="12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直接连接符 7179"/>
            <p:cNvSpPr/>
            <p:nvPr/>
          </p:nvSpPr>
          <p:spPr>
            <a:xfrm>
              <a:off x="3789360" y="3406680"/>
              <a:ext cx="122868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7180"/>
            <p:cNvSpPr/>
            <p:nvPr/>
          </p:nvSpPr>
          <p:spPr>
            <a:xfrm>
              <a:off x="4403520" y="2773440"/>
              <a:ext cx="720" cy="126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组合 7181"/>
          <p:cNvGrpSpPr/>
          <p:nvPr/>
        </p:nvGrpSpPr>
        <p:grpSpPr>
          <a:xfrm>
            <a:off x="5373720" y="2773440"/>
            <a:ext cx="1228680" cy="1266840"/>
            <a:chOff x="5373720" y="2773440"/>
            <a:chExt cx="1228680" cy="1266840"/>
          </a:xfrm>
        </p:grpSpPr>
        <p:sp>
          <p:nvSpPr>
            <p:cNvPr id="1092" name="矩形 7182"/>
            <p:cNvSpPr/>
            <p:nvPr/>
          </p:nvSpPr>
          <p:spPr>
            <a:xfrm>
              <a:off x="5373720" y="2773440"/>
              <a:ext cx="1228680" cy="12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7183"/>
            <p:cNvSpPr/>
            <p:nvPr/>
          </p:nvSpPr>
          <p:spPr>
            <a:xfrm>
              <a:off x="5373720" y="3406680"/>
              <a:ext cx="122868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7184"/>
            <p:cNvSpPr/>
            <p:nvPr/>
          </p:nvSpPr>
          <p:spPr>
            <a:xfrm>
              <a:off x="5987880" y="2773440"/>
              <a:ext cx="720" cy="126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组合 7185"/>
          <p:cNvGrpSpPr/>
          <p:nvPr/>
        </p:nvGrpSpPr>
        <p:grpSpPr>
          <a:xfrm>
            <a:off x="6956280" y="2773440"/>
            <a:ext cx="1229040" cy="1266840"/>
            <a:chOff x="6956280" y="2773440"/>
            <a:chExt cx="1229040" cy="1266840"/>
          </a:xfrm>
        </p:grpSpPr>
        <p:sp>
          <p:nvSpPr>
            <p:cNvPr id="1096" name="矩形 7186"/>
            <p:cNvSpPr/>
            <p:nvPr/>
          </p:nvSpPr>
          <p:spPr>
            <a:xfrm>
              <a:off x="6956280" y="2773440"/>
              <a:ext cx="1229040" cy="126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直接连接符 7187"/>
            <p:cNvSpPr/>
            <p:nvPr/>
          </p:nvSpPr>
          <p:spPr>
            <a:xfrm>
              <a:off x="6956280" y="3406680"/>
              <a:ext cx="122904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7188"/>
            <p:cNvSpPr/>
            <p:nvPr/>
          </p:nvSpPr>
          <p:spPr>
            <a:xfrm>
              <a:off x="7570800" y="2773440"/>
              <a:ext cx="720" cy="126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WordArt 10"/>
          <p:cNvSpPr txBox="1"/>
          <p:nvPr/>
        </p:nvSpPr>
        <p:spPr>
          <a:xfrm>
            <a:off x="2214720" y="2806560"/>
            <a:ext cx="66816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黑体"/>
              </a:rPr>
              <a:t>2</a:t>
            </a:r>
            <a:endParaRPr b="0" lang="en-US" sz="9600" spc="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00" name="WordArt 14"/>
          <p:cNvSpPr txBox="1"/>
          <p:nvPr/>
        </p:nvSpPr>
        <p:spPr>
          <a:xfrm>
            <a:off x="3792600" y="2798640"/>
            <a:ext cx="69048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黑体"/>
              </a:rPr>
              <a:t>3</a:t>
            </a:r>
            <a:endParaRPr b="1" lang="en-US" sz="1800" spc="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01" name="WordArt 18"/>
          <p:cNvSpPr txBox="1"/>
          <p:nvPr/>
        </p:nvSpPr>
        <p:spPr>
          <a:xfrm>
            <a:off x="5375160" y="2806560"/>
            <a:ext cx="65736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黑体"/>
              </a:rPr>
              <a:t>4</a:t>
            </a:r>
            <a:endParaRPr b="0" lang="en-US" sz="1800" spc="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02" name="WordArt 3"/>
          <p:cNvSpPr txBox="1"/>
          <p:nvPr/>
        </p:nvSpPr>
        <p:spPr>
          <a:xfrm>
            <a:off x="6913440" y="2817720"/>
            <a:ext cx="7192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黑体"/>
              </a:rPr>
              <a:t>5</a:t>
            </a:r>
            <a:endParaRPr b="0" lang="en-US" sz="1800" spc="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03" name="流程图: 可选过程 7193"/>
          <p:cNvSpPr/>
          <p:nvPr/>
        </p:nvSpPr>
        <p:spPr>
          <a:xfrm flipH="1" rot="900000">
            <a:off x="920520" y="2805120"/>
            <a:ext cx="125280" cy="12207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0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6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07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5640" y="712800"/>
            <a:ext cx="305892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、连一连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8194"/>
          <p:cNvSpPr/>
          <p:nvPr/>
        </p:nvSpPr>
        <p:spPr>
          <a:xfrm>
            <a:off x="1839960" y="1395360"/>
            <a:ext cx="5414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          2          3          4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直接连接符 8195"/>
          <p:cNvSpPr/>
          <p:nvPr/>
        </p:nvSpPr>
        <p:spPr>
          <a:xfrm>
            <a:off x="2084400" y="2120760"/>
            <a:ext cx="754200" cy="2160720"/>
          </a:xfrm>
          <a:prstGeom prst="line">
            <a:avLst/>
          </a:prstGeom>
          <a:ln w="190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8196"/>
          <p:cNvSpPr/>
          <p:nvPr/>
        </p:nvSpPr>
        <p:spPr>
          <a:xfrm>
            <a:off x="4478400" y="2122560"/>
            <a:ext cx="3240" cy="2160360"/>
          </a:xfrm>
          <a:prstGeom prst="line">
            <a:avLst/>
          </a:prstGeom>
          <a:ln w="190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直接连接符 8197"/>
          <p:cNvSpPr/>
          <p:nvPr/>
        </p:nvSpPr>
        <p:spPr>
          <a:xfrm>
            <a:off x="3274920" y="2122560"/>
            <a:ext cx="4419720" cy="2160360"/>
          </a:xfrm>
          <a:prstGeom prst="line">
            <a:avLst/>
          </a:prstGeom>
          <a:ln w="190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直接连接符 8198"/>
          <p:cNvSpPr/>
          <p:nvPr/>
        </p:nvSpPr>
        <p:spPr>
          <a:xfrm flipH="1">
            <a:off x="6245280" y="2122560"/>
            <a:ext cx="738000" cy="2160360"/>
          </a:xfrm>
          <a:prstGeom prst="line">
            <a:avLst/>
          </a:prstGeom>
          <a:ln w="190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组合 8199"/>
          <p:cNvGrpSpPr/>
          <p:nvPr/>
        </p:nvGrpSpPr>
        <p:grpSpPr>
          <a:xfrm>
            <a:off x="4408560" y="5294160"/>
            <a:ext cx="6120" cy="177840"/>
            <a:chOff x="4408560" y="5294160"/>
            <a:chExt cx="6120" cy="177840"/>
          </a:xfrm>
        </p:grpSpPr>
        <p:sp>
          <p:nvSpPr>
            <p:cNvPr id="1122" name="圆角矩形 8200"/>
            <p:cNvSpPr/>
            <p:nvPr/>
          </p:nvSpPr>
          <p:spPr>
            <a:xfrm>
              <a:off x="4408560" y="5295960"/>
              <a:ext cx="1080" cy="176040"/>
            </a:xfrm>
            <a:custGeom>
              <a:avLst/>
              <a:gdLst/>
              <a:ahLst/>
              <a:rect l="l" t="t" r="r" b="b"/>
              <a:pathLst>
                <a:path w="21600" h="2646000">
                  <a:moveTo>
                    <a:pt x="2074" y="0"/>
                  </a:moveTo>
                  <a:arcTo wR="2074" hR="2074" stAng="16200000" swAng="-5400000"/>
                  <a:lnTo>
                    <a:pt x="0" y="2643926"/>
                  </a:lnTo>
                  <a:arcTo wR="2074" hR="2074" stAng="10800000" swAng="-5400000"/>
                  <a:lnTo>
                    <a:pt x="19526" y="2646000"/>
                  </a:lnTo>
                  <a:arcTo wR="2074" hR="2074" stAng="5400000" swAng="-5400000"/>
                  <a:lnTo>
                    <a:pt x="21600" y="2074"/>
                  </a:lnTo>
                  <a:arcTo wR="2074" hR="2074" stAng="0" swAng="-5400000"/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圆角矩形 8201"/>
            <p:cNvSpPr/>
            <p:nvPr/>
          </p:nvSpPr>
          <p:spPr>
            <a:xfrm>
              <a:off x="4411080" y="5295960"/>
              <a:ext cx="1080" cy="176040"/>
            </a:xfrm>
            <a:custGeom>
              <a:avLst/>
              <a:gdLst/>
              <a:ahLst/>
              <a:rect l="l" t="t" r="r" b="b"/>
              <a:pathLst>
                <a:path w="21600" h="2646000">
                  <a:moveTo>
                    <a:pt x="2074" y="0"/>
                  </a:moveTo>
                  <a:arcTo wR="2074" hR="2074" stAng="16200000" swAng="-5400000"/>
                  <a:lnTo>
                    <a:pt x="0" y="2643926"/>
                  </a:lnTo>
                  <a:arcTo wR="2074" hR="2074" stAng="10800000" swAng="-5400000"/>
                  <a:lnTo>
                    <a:pt x="19526" y="2646000"/>
                  </a:lnTo>
                  <a:arcTo wR="2074" hR="2074" stAng="5400000" swAng="-5400000"/>
                  <a:lnTo>
                    <a:pt x="21600" y="2074"/>
                  </a:lnTo>
                  <a:arcTo wR="2074" hR="2074" stAng="0" swAng="-5400000"/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圆角矩形 8202"/>
            <p:cNvSpPr/>
            <p:nvPr/>
          </p:nvSpPr>
          <p:spPr>
            <a:xfrm>
              <a:off x="4412520" y="5295960"/>
              <a:ext cx="1080" cy="176040"/>
            </a:xfrm>
            <a:custGeom>
              <a:avLst/>
              <a:gdLst/>
              <a:ahLst/>
              <a:rect l="l" t="t" r="r" b="b"/>
              <a:pathLst>
                <a:path w="21600" h="2646000">
                  <a:moveTo>
                    <a:pt x="2074" y="0"/>
                  </a:moveTo>
                  <a:arcTo wR="2074" hR="2074" stAng="16200000" swAng="-5400000"/>
                  <a:lnTo>
                    <a:pt x="0" y="2643926"/>
                  </a:lnTo>
                  <a:arcTo wR="2074" hR="2074" stAng="10800000" swAng="-5400000"/>
                  <a:lnTo>
                    <a:pt x="19526" y="2646000"/>
                  </a:lnTo>
                  <a:arcTo wR="2074" hR="2074" stAng="5400000" swAng="-5400000"/>
                  <a:lnTo>
                    <a:pt x="21600" y="2074"/>
                  </a:lnTo>
                  <a:arcTo wR="2074" hR="2074" stAng="0" swAng="-5400000"/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圆角矩形 8203"/>
            <p:cNvSpPr/>
            <p:nvPr/>
          </p:nvSpPr>
          <p:spPr>
            <a:xfrm>
              <a:off x="4413600" y="5295960"/>
              <a:ext cx="1080" cy="176040"/>
            </a:xfrm>
            <a:custGeom>
              <a:avLst/>
              <a:gdLst/>
              <a:ahLst/>
              <a:rect l="l" t="t" r="r" b="b"/>
              <a:pathLst>
                <a:path w="21600" h="2646000">
                  <a:moveTo>
                    <a:pt x="2074" y="0"/>
                  </a:moveTo>
                  <a:arcTo wR="2074" hR="2074" stAng="16200000" swAng="-5400000"/>
                  <a:lnTo>
                    <a:pt x="0" y="2643926"/>
                  </a:lnTo>
                  <a:arcTo wR="2074" hR="2074" stAng="10800000" swAng="-5400000"/>
                  <a:lnTo>
                    <a:pt x="19526" y="2646000"/>
                  </a:lnTo>
                  <a:arcTo wR="2074" hR="2074" stAng="5400000" swAng="-5400000"/>
                  <a:lnTo>
                    <a:pt x="21600" y="2074"/>
                  </a:lnTo>
                  <a:arcTo wR="2074" hR="2074" stAng="0" swAng="-5400000"/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圆角矩形 8204"/>
            <p:cNvSpPr/>
            <p:nvPr/>
          </p:nvSpPr>
          <p:spPr>
            <a:xfrm>
              <a:off x="4409640" y="5295960"/>
              <a:ext cx="1080" cy="176040"/>
            </a:xfrm>
            <a:custGeom>
              <a:avLst/>
              <a:gdLst/>
              <a:ahLst/>
              <a:rect l="l" t="t" r="r" b="b"/>
              <a:pathLst>
                <a:path w="21600" h="2646000">
                  <a:moveTo>
                    <a:pt x="2074" y="0"/>
                  </a:moveTo>
                  <a:arcTo wR="2074" hR="2074" stAng="16200000" swAng="-5400000"/>
                  <a:lnTo>
                    <a:pt x="0" y="2643926"/>
                  </a:lnTo>
                  <a:arcTo wR="2074" hR="2074" stAng="10800000" swAng="-5400000"/>
                  <a:lnTo>
                    <a:pt x="19526" y="2646000"/>
                  </a:lnTo>
                  <a:arcTo wR="2074" hR="2074" stAng="5400000" swAng="-5400000"/>
                  <a:lnTo>
                    <a:pt x="21600" y="2074"/>
                  </a:lnTo>
                  <a:arcTo wR="2074" hR="2074" stAng="0" swAng="-5400000"/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7" name="图片 8205" descr="小熊"/>
            <p:cNvPicPr/>
            <p:nvPr/>
          </p:nvPicPr>
          <p:blipFill>
            <a:blip r:embed="rId1"/>
            <a:stretch/>
          </p:blipFill>
          <p:spPr>
            <a:xfrm>
              <a:off x="4410000" y="5319360"/>
              <a:ext cx="360" cy="1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内容占位符 8206" descr="小马"/>
            <p:cNvPicPr/>
            <p:nvPr/>
          </p:nvPicPr>
          <p:blipFill>
            <a:blip r:embed="rId2"/>
            <a:stretch/>
          </p:blipFill>
          <p:spPr>
            <a:xfrm>
              <a:off x="4408560" y="5295960"/>
              <a:ext cx="360" cy="8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图片 8207" descr="苹果"/>
            <p:cNvPicPr/>
            <p:nvPr/>
          </p:nvPicPr>
          <p:blipFill>
            <a:blip r:embed="rId3"/>
            <a:stretch/>
          </p:blipFill>
          <p:spPr>
            <a:xfrm>
              <a:off x="4412520" y="5309280"/>
              <a:ext cx="360" cy="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图片 8208" descr="苹果"/>
            <p:cNvPicPr/>
            <p:nvPr/>
          </p:nvPicPr>
          <p:blipFill>
            <a:blip r:embed="rId4"/>
            <a:stretch/>
          </p:blipFill>
          <p:spPr>
            <a:xfrm>
              <a:off x="4412880" y="5309280"/>
              <a:ext cx="360" cy="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图片 8209" descr="苹果"/>
            <p:cNvPicPr/>
            <p:nvPr/>
          </p:nvPicPr>
          <p:blipFill>
            <a:blip r:embed="rId5"/>
            <a:stretch/>
          </p:blipFill>
          <p:spPr>
            <a:xfrm>
              <a:off x="4412520" y="5384160"/>
              <a:ext cx="360" cy="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图片 8210" descr="苹果"/>
            <p:cNvPicPr/>
            <p:nvPr/>
          </p:nvPicPr>
          <p:blipFill>
            <a:blip r:embed="rId6"/>
            <a:stretch/>
          </p:blipFill>
          <p:spPr>
            <a:xfrm>
              <a:off x="4412880" y="5384160"/>
              <a:ext cx="360" cy="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图片 8211" descr="苹果"/>
            <p:cNvPicPr/>
            <p:nvPr/>
          </p:nvPicPr>
          <p:blipFill>
            <a:blip r:embed="rId7"/>
            <a:stretch/>
          </p:blipFill>
          <p:spPr>
            <a:xfrm>
              <a:off x="4413240" y="5384160"/>
              <a:ext cx="360" cy="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内容占位符 8212" descr="小猴子"/>
            <p:cNvPicPr/>
            <p:nvPr/>
          </p:nvPicPr>
          <p:blipFill>
            <a:blip r:embed="rId8"/>
            <a:stretch/>
          </p:blipFill>
          <p:spPr>
            <a:xfrm>
              <a:off x="4413600" y="5319360"/>
              <a:ext cx="360" cy="1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图片 8213" descr="小猴子"/>
            <p:cNvPicPr/>
            <p:nvPr/>
          </p:nvPicPr>
          <p:blipFill>
            <a:blip r:embed="rId9"/>
            <a:stretch/>
          </p:blipFill>
          <p:spPr>
            <a:xfrm>
              <a:off x="4414320" y="5319360"/>
              <a:ext cx="360" cy="1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图片 8214" descr="小马"/>
            <p:cNvPicPr/>
            <p:nvPr/>
          </p:nvPicPr>
          <p:blipFill>
            <a:blip r:embed="rId10"/>
            <a:stretch/>
          </p:blipFill>
          <p:spPr>
            <a:xfrm>
              <a:off x="4408920" y="5295960"/>
              <a:ext cx="360" cy="8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图片 8215" descr="小马"/>
            <p:cNvPicPr/>
            <p:nvPr/>
          </p:nvPicPr>
          <p:blipFill>
            <a:blip r:embed="rId11"/>
            <a:stretch/>
          </p:blipFill>
          <p:spPr>
            <a:xfrm>
              <a:off x="4408560" y="5383080"/>
              <a:ext cx="360" cy="8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图片 8216" descr="小马"/>
            <p:cNvPicPr/>
            <p:nvPr/>
          </p:nvPicPr>
          <p:blipFill>
            <a:blip r:embed="rId12"/>
            <a:stretch/>
          </p:blipFill>
          <p:spPr>
            <a:xfrm>
              <a:off x="4408920" y="5383080"/>
              <a:ext cx="360" cy="8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图片 8217" descr="小牛"/>
            <p:cNvPicPr/>
            <p:nvPr/>
          </p:nvPicPr>
          <p:blipFill>
            <a:blip r:embed="rId13"/>
            <a:stretch/>
          </p:blipFill>
          <p:spPr>
            <a:xfrm>
              <a:off x="4411440" y="5294160"/>
              <a:ext cx="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内容占位符 8218" descr="小牛"/>
            <p:cNvPicPr/>
            <p:nvPr/>
          </p:nvPicPr>
          <p:blipFill>
            <a:blip r:embed="rId14"/>
            <a:stretch/>
          </p:blipFill>
          <p:spPr>
            <a:xfrm>
              <a:off x="4411080" y="5386680"/>
              <a:ext cx="360" cy="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图片 8219" descr="小牛"/>
            <p:cNvPicPr/>
            <p:nvPr/>
          </p:nvPicPr>
          <p:blipFill>
            <a:blip r:embed="rId15"/>
            <a:stretch/>
          </p:blipFill>
          <p:spPr>
            <a:xfrm>
              <a:off x="4411440" y="5388120"/>
              <a:ext cx="360" cy="7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2" name="直接连接符 8220"/>
          <p:cNvSpPr/>
          <p:nvPr/>
        </p:nvSpPr>
        <p:spPr>
          <a:xfrm flipH="1">
            <a:off x="1139400" y="2122560"/>
            <a:ext cx="4505400" cy="216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44" name="圆角矩形 5" descr=""/>
            <p:cNvPicPr/>
            <p:nvPr/>
          </p:nvPicPr>
          <p:blipFill>
            <a:blip r:embed="rId16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5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46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椭圆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8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9" name="椭圆 30" descr=""/>
              <p:cNvPicPr/>
              <p:nvPr/>
            </p:nvPicPr>
            <p:blipFill>
              <a:blip r:embed="rId18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31" descr=""/>
              <p:cNvPicPr/>
              <p:nvPr/>
            </p:nvPicPr>
            <p:blipFill>
              <a:blip r:embed="rId19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32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4" descr=""/>
              <p:cNvPicPr/>
              <p:nvPr/>
            </p:nvPicPr>
            <p:blipFill>
              <a:blip r:embed="rId22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4" name="Rectangle 64"/>
          <p:cNvSpPr/>
          <p:nvPr/>
        </p:nvSpPr>
        <p:spPr>
          <a:xfrm>
            <a:off x="520560" y="150840"/>
            <a:ext cx="1973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宋体"/>
                <a:ea typeface="宋体"/>
              </a:rPr>
              <a:t>做一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组合 9217"/>
          <p:cNvGrpSpPr/>
          <p:nvPr/>
        </p:nvGrpSpPr>
        <p:grpSpPr>
          <a:xfrm>
            <a:off x="952560" y="1736640"/>
            <a:ext cx="7278120" cy="1728720"/>
            <a:chOff x="952560" y="1736640"/>
            <a:chExt cx="7278120" cy="1728720"/>
          </a:xfrm>
        </p:grpSpPr>
        <p:sp>
          <p:nvSpPr>
            <p:cNvPr id="1156" name="圆角矩形 9218"/>
            <p:cNvSpPr/>
            <p:nvPr/>
          </p:nvSpPr>
          <p:spPr>
            <a:xfrm>
              <a:off x="2612880" y="1736640"/>
              <a:ext cx="1757160" cy="1728720"/>
            </a:xfrm>
            <a:prstGeom prst="roundRect">
              <a:avLst>
                <a:gd name="adj" fmla="val 9602"/>
              </a:avLst>
            </a:pr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圆角矩形 9219"/>
            <p:cNvSpPr/>
            <p:nvPr/>
          </p:nvSpPr>
          <p:spPr>
            <a:xfrm>
              <a:off x="4543560" y="1736640"/>
              <a:ext cx="1757160" cy="1728720"/>
            </a:xfrm>
            <a:prstGeom prst="roundRect">
              <a:avLst>
                <a:gd name="adj" fmla="val 9602"/>
              </a:avLst>
            </a:pr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圆角矩形 9220"/>
            <p:cNvSpPr/>
            <p:nvPr/>
          </p:nvSpPr>
          <p:spPr>
            <a:xfrm>
              <a:off x="6473880" y="1736640"/>
              <a:ext cx="1756800" cy="1728720"/>
            </a:xfrm>
            <a:prstGeom prst="roundRect">
              <a:avLst>
                <a:gd name="adj" fmla="val 9602"/>
              </a:avLst>
            </a:pr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圆角矩形 9221"/>
            <p:cNvSpPr/>
            <p:nvPr/>
          </p:nvSpPr>
          <p:spPr>
            <a:xfrm>
              <a:off x="952560" y="1736640"/>
              <a:ext cx="1488960" cy="1728720"/>
            </a:xfrm>
            <a:custGeom>
              <a:avLst/>
              <a:gdLst>
                <a:gd name="textAreaLeft" fmla="*/ 41760 w 1488960"/>
                <a:gd name="textAreaRight" fmla="*/ 1447200 w 1488960"/>
                <a:gd name="textAreaTop" fmla="*/ 41760 h 1728720"/>
                <a:gd name="textAreaBottom" fmla="*/ 1686960 h 1728720"/>
              </a:gdLst>
              <a:ahLst/>
              <a:rect l="textAreaLeft" t="textAreaTop" r="textAreaRight" b="textAreaBottom"/>
              <a:pathLst>
                <a:path w="21600" h="25077">
                  <a:moveTo>
                    <a:pt x="2074" y="0"/>
                  </a:moveTo>
                  <a:arcTo wR="2074" hR="2074" stAng="16200000" swAng="-5400000"/>
                  <a:lnTo>
                    <a:pt x="0" y="23003"/>
                  </a:lnTo>
                  <a:arcTo wR="2074" hR="2074" stAng="10800000" swAng="-5400000"/>
                  <a:lnTo>
                    <a:pt x="19526" y="25077"/>
                  </a:lnTo>
                  <a:arcTo wR="2074" hR="2074" stAng="5400000" swAng="-5400000"/>
                  <a:lnTo>
                    <a:pt x="21600" y="2074"/>
                  </a:lnTo>
                  <a:arcTo wR="2074" hR="2074" stAng="0" swAng="-5400000"/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0" name="图片 9222" descr="P-21-4"/>
            <p:cNvPicPr/>
            <p:nvPr/>
          </p:nvPicPr>
          <p:blipFill>
            <a:blip r:embed="rId1"/>
            <a:stretch/>
          </p:blipFill>
          <p:spPr>
            <a:xfrm>
              <a:off x="1096560" y="2084400"/>
              <a:ext cx="1198800" cy="114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1" name="组合 9223"/>
            <p:cNvGrpSpPr/>
            <p:nvPr/>
          </p:nvGrpSpPr>
          <p:grpSpPr>
            <a:xfrm>
              <a:off x="2795400" y="1941480"/>
              <a:ext cx="1325520" cy="1420920"/>
              <a:chOff x="2795400" y="1941480"/>
              <a:chExt cx="1325520" cy="1420920"/>
            </a:xfrm>
          </p:grpSpPr>
          <p:pic>
            <p:nvPicPr>
              <p:cNvPr id="1162" name="图片 9224" descr="P-21-5"/>
              <p:cNvPicPr/>
              <p:nvPr/>
            </p:nvPicPr>
            <p:blipFill>
              <a:blip r:embed="rId2"/>
              <a:stretch/>
            </p:blipFill>
            <p:spPr>
              <a:xfrm>
                <a:off x="2795400" y="1949040"/>
                <a:ext cx="41580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图片 9225" descr="P-21-5"/>
              <p:cNvPicPr/>
              <p:nvPr/>
            </p:nvPicPr>
            <p:blipFill>
              <a:blip r:embed="rId3"/>
              <a:stretch/>
            </p:blipFill>
            <p:spPr>
              <a:xfrm>
                <a:off x="3705120" y="1941480"/>
                <a:ext cx="41580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图片 9226" descr="P-21-5"/>
              <p:cNvPicPr/>
              <p:nvPr/>
            </p:nvPicPr>
            <p:blipFill>
              <a:blip r:embed="rId4"/>
              <a:stretch/>
            </p:blipFill>
            <p:spPr>
              <a:xfrm>
                <a:off x="3249360" y="2410920"/>
                <a:ext cx="41760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图片 9227" descr="P-21-5"/>
              <p:cNvPicPr/>
              <p:nvPr/>
            </p:nvPicPr>
            <p:blipFill>
              <a:blip r:embed="rId5"/>
              <a:stretch/>
            </p:blipFill>
            <p:spPr>
              <a:xfrm>
                <a:off x="2795400" y="2871000"/>
                <a:ext cx="41580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图片 9228" descr="P-21-5"/>
              <p:cNvPicPr/>
              <p:nvPr/>
            </p:nvPicPr>
            <p:blipFill>
              <a:blip r:embed="rId6"/>
              <a:stretch/>
            </p:blipFill>
            <p:spPr>
              <a:xfrm>
                <a:off x="3705120" y="2863080"/>
                <a:ext cx="415800" cy="49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7" name="组合 9229"/>
            <p:cNvGrpSpPr/>
            <p:nvPr/>
          </p:nvGrpSpPr>
          <p:grpSpPr>
            <a:xfrm>
              <a:off x="6583320" y="1923480"/>
              <a:ext cx="1536840" cy="1403640"/>
              <a:chOff x="6583320" y="1923480"/>
              <a:chExt cx="1536840" cy="1403640"/>
            </a:xfrm>
          </p:grpSpPr>
          <p:pic>
            <p:nvPicPr>
              <p:cNvPr id="1168" name="图片 9230" descr="P-21-7"/>
              <p:cNvPicPr/>
              <p:nvPr/>
            </p:nvPicPr>
            <p:blipFill>
              <a:blip r:embed="rId7"/>
              <a:stretch/>
            </p:blipFill>
            <p:spPr>
              <a:xfrm>
                <a:off x="6583320" y="1923480"/>
                <a:ext cx="671400" cy="59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图片 9231" descr="P-21-7"/>
              <p:cNvPicPr/>
              <p:nvPr/>
            </p:nvPicPr>
            <p:blipFill>
              <a:blip r:embed="rId8"/>
              <a:stretch/>
            </p:blipFill>
            <p:spPr>
              <a:xfrm>
                <a:off x="7448400" y="1923480"/>
                <a:ext cx="671760" cy="59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图片 9232" descr="P-21-7"/>
              <p:cNvPicPr/>
              <p:nvPr/>
            </p:nvPicPr>
            <p:blipFill>
              <a:blip r:embed="rId9"/>
              <a:stretch/>
            </p:blipFill>
            <p:spPr>
              <a:xfrm>
                <a:off x="6583320" y="2730960"/>
                <a:ext cx="671400" cy="59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图片 9233" descr="P-21-7"/>
              <p:cNvPicPr/>
              <p:nvPr/>
            </p:nvPicPr>
            <p:blipFill>
              <a:blip r:embed="rId10"/>
              <a:stretch/>
            </p:blipFill>
            <p:spPr>
              <a:xfrm>
                <a:off x="7448400" y="2730960"/>
                <a:ext cx="671760" cy="596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2" name="组合 9234"/>
            <p:cNvGrpSpPr/>
            <p:nvPr/>
          </p:nvGrpSpPr>
          <p:grpSpPr>
            <a:xfrm>
              <a:off x="4702320" y="1893960"/>
              <a:ext cx="1507680" cy="1377720"/>
              <a:chOff x="4702320" y="1893960"/>
              <a:chExt cx="1507680" cy="1377720"/>
            </a:xfrm>
          </p:grpSpPr>
          <p:pic>
            <p:nvPicPr>
              <p:cNvPr id="1173" name="图片 9235" descr="P-21-6"/>
              <p:cNvPicPr/>
              <p:nvPr/>
            </p:nvPicPr>
            <p:blipFill>
              <a:blip r:embed="rId11"/>
              <a:stretch/>
            </p:blipFill>
            <p:spPr>
              <a:xfrm>
                <a:off x="5151600" y="1893960"/>
                <a:ext cx="61056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图片 9236" descr="P-21-6"/>
              <p:cNvPicPr/>
              <p:nvPr/>
            </p:nvPicPr>
            <p:blipFill>
              <a:blip r:embed="rId12"/>
              <a:stretch/>
            </p:blipFill>
            <p:spPr>
              <a:xfrm>
                <a:off x="4702320" y="2661840"/>
                <a:ext cx="61056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5" name="图片 9237" descr="P-21-6"/>
              <p:cNvPicPr/>
              <p:nvPr/>
            </p:nvPicPr>
            <p:blipFill>
              <a:blip r:embed="rId13"/>
              <a:stretch/>
            </p:blipFill>
            <p:spPr>
              <a:xfrm>
                <a:off x="5599440" y="2661840"/>
                <a:ext cx="610560" cy="609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76" name="组合 9238"/>
          <p:cNvGrpSpPr/>
          <p:nvPr/>
        </p:nvGrpSpPr>
        <p:grpSpPr>
          <a:xfrm>
            <a:off x="1392120" y="4056120"/>
            <a:ext cx="573120" cy="1100160"/>
            <a:chOff x="1392120" y="4056120"/>
            <a:chExt cx="573120" cy="1100160"/>
          </a:xfrm>
        </p:grpSpPr>
        <p:sp>
          <p:nvSpPr>
            <p:cNvPr id="1177" name="矩形 9239"/>
            <p:cNvSpPr/>
            <p:nvPr/>
          </p:nvSpPr>
          <p:spPr>
            <a:xfrm>
              <a:off x="1392120" y="4056120"/>
              <a:ext cx="573120" cy="1100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直接连接符 9240"/>
            <p:cNvSpPr/>
            <p:nvPr/>
          </p:nvSpPr>
          <p:spPr>
            <a:xfrm>
              <a:off x="1392120" y="4598280"/>
              <a:ext cx="5731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组合 9241"/>
          <p:cNvGrpSpPr/>
          <p:nvPr/>
        </p:nvGrpSpPr>
        <p:grpSpPr>
          <a:xfrm>
            <a:off x="5170320" y="4041720"/>
            <a:ext cx="573120" cy="1100160"/>
            <a:chOff x="5170320" y="4041720"/>
            <a:chExt cx="573120" cy="1100160"/>
          </a:xfrm>
        </p:grpSpPr>
        <p:sp>
          <p:nvSpPr>
            <p:cNvPr id="1180" name="矩形 9242"/>
            <p:cNvSpPr/>
            <p:nvPr/>
          </p:nvSpPr>
          <p:spPr>
            <a:xfrm>
              <a:off x="5170320" y="4041720"/>
              <a:ext cx="573120" cy="1100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接连接符 9243"/>
            <p:cNvSpPr/>
            <p:nvPr/>
          </p:nvSpPr>
          <p:spPr>
            <a:xfrm>
              <a:off x="5170320" y="4583880"/>
              <a:ext cx="5731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组合 9244"/>
          <p:cNvGrpSpPr/>
          <p:nvPr/>
        </p:nvGrpSpPr>
        <p:grpSpPr>
          <a:xfrm>
            <a:off x="7124760" y="4014720"/>
            <a:ext cx="573120" cy="1100160"/>
            <a:chOff x="7124760" y="4014720"/>
            <a:chExt cx="573120" cy="1100160"/>
          </a:xfrm>
        </p:grpSpPr>
        <p:sp>
          <p:nvSpPr>
            <p:cNvPr id="1183" name="矩形 9245"/>
            <p:cNvSpPr/>
            <p:nvPr/>
          </p:nvSpPr>
          <p:spPr>
            <a:xfrm>
              <a:off x="7124760" y="4014720"/>
              <a:ext cx="573120" cy="1100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直接连接符 9246"/>
            <p:cNvSpPr/>
            <p:nvPr/>
          </p:nvSpPr>
          <p:spPr>
            <a:xfrm>
              <a:off x="7124760" y="4556880"/>
              <a:ext cx="5731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9247"/>
          <p:cNvGrpSpPr/>
          <p:nvPr/>
        </p:nvGrpSpPr>
        <p:grpSpPr>
          <a:xfrm>
            <a:off x="3206880" y="4056120"/>
            <a:ext cx="573120" cy="1100160"/>
            <a:chOff x="3206880" y="4056120"/>
            <a:chExt cx="573120" cy="1100160"/>
          </a:xfrm>
        </p:grpSpPr>
        <p:sp>
          <p:nvSpPr>
            <p:cNvPr id="1186" name="矩形 9248"/>
            <p:cNvSpPr/>
            <p:nvPr/>
          </p:nvSpPr>
          <p:spPr>
            <a:xfrm>
              <a:off x="3206880" y="4056120"/>
              <a:ext cx="573120" cy="1100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直接连接符 9249"/>
            <p:cNvSpPr/>
            <p:nvPr/>
          </p:nvSpPr>
          <p:spPr>
            <a:xfrm>
              <a:off x="3206880" y="4598280"/>
              <a:ext cx="5731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WordArt 10"/>
          <p:cNvSpPr txBox="1"/>
          <p:nvPr/>
        </p:nvSpPr>
        <p:spPr>
          <a:xfrm>
            <a:off x="1392120" y="4081320"/>
            <a:ext cx="60336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2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89" name="WordArt 14"/>
          <p:cNvSpPr txBox="1"/>
          <p:nvPr/>
        </p:nvSpPr>
        <p:spPr>
          <a:xfrm>
            <a:off x="5156280" y="4067280"/>
            <a:ext cx="636480" cy="106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3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90" name="WordArt 18"/>
          <p:cNvSpPr txBox="1"/>
          <p:nvPr/>
        </p:nvSpPr>
        <p:spPr>
          <a:xfrm>
            <a:off x="7124760" y="4041720"/>
            <a:ext cx="57312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4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91" name="WordArt 3"/>
          <p:cNvSpPr txBox="1"/>
          <p:nvPr/>
        </p:nvSpPr>
        <p:spPr>
          <a:xfrm>
            <a:off x="3178080" y="4100400"/>
            <a:ext cx="641520" cy="10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192" name="矩形 9254"/>
          <p:cNvSpPr/>
          <p:nvPr/>
        </p:nvSpPr>
        <p:spPr>
          <a:xfrm>
            <a:off x="147600" y="700200"/>
            <a:ext cx="30592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94" name="圆角矩形 5" descr=""/>
            <p:cNvPicPr/>
            <p:nvPr/>
          </p:nvPicPr>
          <p:blipFill>
            <a:blip r:embed="rId14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5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96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7" name="椭圆 13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8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9" name="椭圆 30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圆角矩形 31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32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>万润仪器贸易公司</cp:lastModifiedBy>
  <dcterms:modified xsi:type="dcterms:W3CDTF">2020-08-18T09:44:26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